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BCACE-A179-48DF-9CDB-B998D9868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057400" y="350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057400" y="4421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53596-7BB8-4B89-BF91-F395528CA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05740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33736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05740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33736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CDFB7-496A-4EC2-82F3-271319219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05740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22136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8568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05740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422136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8568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AB4C0-31A5-4706-B750-34ADC3A6C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0863D-1D68-469C-9C73-51A297CA4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20574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E1A1B-CBB8-4FA4-86AB-0A5EEE73F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0574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C90CE-D9AF-40E0-8CCC-5B1BEE15E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05740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3736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2507C-239E-4195-A46D-8B5125815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BAA97-2295-46FE-B36A-8295FADE1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685800" y="1218960"/>
            <a:ext cx="7772400" cy="89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A31EC-7E76-473E-9196-893357354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05740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33736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05740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80D40-7F35-4758-BC35-6A5BBADE1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0574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3ABC7-E520-425F-B7DF-C54DC5D09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05740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33736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33736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F9CCC-45FE-43E2-8CF1-EF1EED70D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05740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33736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2057400" y="4421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CEB07-8FA0-429E-AF9B-38C394927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057400" y="350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2057400" y="4421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E0D0D-87A5-4C58-8FBB-149256B8F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05740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33736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205740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33736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66321-1770-40F0-A0A6-54672BC45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05740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22136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8568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205740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422136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8568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D04B6-6EFD-4E67-A6E6-DF65594B3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0574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9F0AD-0D26-4727-A9FD-5C7207972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05740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33736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CF99A-135C-4944-A93A-5E8D332E6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CF2A9-D6D7-4AE7-B45F-FC9AD735A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1218960"/>
            <a:ext cx="7772400" cy="89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CBC05-0D39-412F-AC73-86D87B8C9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05740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33736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05740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6A23B-50DE-484A-A430-2EF44BF34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05740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33736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33736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5D0F2-1736-423A-BC35-C6277E81D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05740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3736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057400" y="4421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9EDB4-BB1A-4C98-BD36-5303AFC0A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8DB50-02F0-43F1-841F-B7500607B6B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0A697-3475-400B-88D1-CD398A9A629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s://ismotp.crptech.ru/" TargetMode="External"/><Relationship Id="rId2" Type="http://schemas.openxmlformats.org/officeDocument/2006/relationships/hyperlink" Target="https://ismotp.crptech.ru/" TargetMode="External"/><Relationship Id="rId3" Type="http://schemas.openxmlformats.org/officeDocument/2006/relationships/hyperlink" Target="https://ismotp.crptech.ru/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mailto:info@crpt.ru" TargetMode="External"/><Relationship Id="rId3" Type="http://schemas.openxmlformats.org/officeDocument/2006/relationships/hyperlink" Target="mailto:motp@crpt.ru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9144000" cy="1197000"/>
          </a:xfrm>
          <a:prstGeom prst="rect">
            <a:avLst/>
          </a:prstGeom>
          <a:solidFill>
            <a:srgbClr val="808080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940360" y="3500280"/>
            <a:ext cx="2952720" cy="31687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611280" y="1773360"/>
            <a:ext cx="7848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Маркировка табачных изделий в розничных торговых объекта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с 01 марта 2019 го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324000" y="3429000"/>
            <a:ext cx="2952720" cy="321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solidFill>
            <a:srgbClr val="808080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6948360" y="0"/>
            <a:ext cx="2195640" cy="19162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http://tt-consult.ru/images/news/n-25-09-2018.jpeg"/>
          <p:cNvPicPr/>
          <p:nvPr/>
        </p:nvPicPr>
        <p:blipFill>
          <a:blip r:embed="rId2"/>
          <a:stretch/>
        </p:blipFill>
        <p:spPr>
          <a:xfrm>
            <a:off x="3276720" y="2924280"/>
            <a:ext cx="5359320" cy="374472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539640" y="907920"/>
            <a:ext cx="8604360" cy="49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ведение обязательной маркировки табачной продукции (с 01 марта 2019 года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сигареты с фильтро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сигареты без фильтр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●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папирос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323640" y="1483920"/>
            <a:ext cx="85690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Этапы внедрения маркировки табачной продукции для участников оборота табачной продукции, осуществляющих розничную продаж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эта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С 01 марта 2019 года по 30 июня 2019 года (включительно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►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егистрация  в информационной системе мониторинг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►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беспечение готовности собственных программно-аппаратных средств к информационному взаимодействию с информационной системой мониторинг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►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охождение тестирования информационного взаимодействия собственных программно-аппаратных средств и информационной системы в порядке, размещенной на сайте оператор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0"/>
            <a:ext cx="9144000" cy="376200"/>
          </a:xfrm>
          <a:prstGeom prst="rect">
            <a:avLst/>
          </a:prstGeom>
          <a:noFill/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solidFill>
            <a:srgbClr val="808080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6948360" y="0"/>
            <a:ext cx="2195640" cy="19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9144000" cy="1413000"/>
          </a:xfrm>
          <a:prstGeom prst="rect">
            <a:avLst/>
          </a:prstGeom>
          <a:solidFill>
            <a:srgbClr val="808080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4000" y="1413000"/>
            <a:ext cx="8496000" cy="455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Что нужно делать розничны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едприятиям торговли на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этап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лучить усиленную квалифицированную электронную подпись (УКЭП) от аккредитованного удостоверяющего центра и зарегистрироваться в информационной системе мониторинга оборота табачной продукции (МОТП) по адресу: </a:t>
            </a:r>
            <a:r>
              <a:rPr b="0" lang="en-US" sz="1800" spc="-1" strike="noStrike" u="sng">
                <a:solidFill>
                  <a:srgbClr val="6767ff"/>
                </a:solidFill>
                <a:uFillTx/>
                <a:latin typeface="Times New Roman"/>
                <a:hlinkClick r:id="rId1"/>
              </a:rPr>
              <a:t>https</a:t>
            </a:r>
            <a:r>
              <a:rPr b="0" lang="ru-RU" sz="1800" spc="-1" strike="noStrike" u="sng">
                <a:solidFill>
                  <a:srgbClr val="6767ff"/>
                </a:solidFill>
                <a:uFillTx/>
                <a:latin typeface="Times New Roman"/>
                <a:hlinkClick r:id="rId2"/>
              </a:rPr>
              <a:t>://</a:t>
            </a:r>
            <a:r>
              <a:rPr b="0" lang="en-US" sz="1800" spc="-1" strike="noStrike" u="sng">
                <a:solidFill>
                  <a:srgbClr val="6767ff"/>
                </a:solidFill>
                <a:uFillTx/>
                <a:latin typeface="Times New Roman"/>
                <a:hlinkClick r:id="rId3"/>
              </a:rPr>
              <a:t>ismotp.crptech.ru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(можно через сайт ЦРПТ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иобрести онлайн-кассу и 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сканер (если имеется, обновить прошивку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Заключить дополнительное соглашение с ОФД для передачи сведений в информационную систему маркировки (за исключением отдаленных от сетей связи местностях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бновить товароучетную программ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6948360" y="0"/>
            <a:ext cx="2195640" cy="191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324000" y="1483920"/>
            <a:ext cx="83628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Этапы внедрения маркировки табачной продукции для участников оборота табачной продукции, осуществляющих розничную продажу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I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эта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С 01 июля 2019 год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►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несение в информационную систему мониторинга сведений о розничной продаже табачной продукци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Вводится запрет на производство табачной продукции, а также ввоз на территорию РФ сигарет и папирос без маркировк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0"/>
            <a:ext cx="9144000" cy="376200"/>
          </a:xfrm>
          <a:prstGeom prst="rect">
            <a:avLst/>
          </a:prstGeom>
          <a:noFill/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solidFill>
            <a:srgbClr val="808080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6948360" y="0"/>
            <a:ext cx="2195640" cy="19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324000" y="1483920"/>
            <a:ext cx="83628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Этапы внедрения маркировки табачной продукции для участников оборота табачной продукции, осуществляющих розничную продажу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II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эта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С 01 июля 2020 год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►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должны быть подключены к оператору электронного документооборота (ЭДО). С данного момента обмен документами между участниками оборота табачной продукции будет осуществляться через ЭДО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►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а территории Российской Федерации запрещается оборот сигарет и папирос немаркированных средствами идентификац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0"/>
            <a:ext cx="9144000" cy="376200"/>
          </a:xfrm>
          <a:prstGeom prst="rect">
            <a:avLst/>
          </a:prstGeom>
          <a:noFill/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solidFill>
            <a:srgbClr val="808080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948360" y="0"/>
            <a:ext cx="2195640" cy="19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0"/>
            <a:ext cx="9144000" cy="1413000"/>
          </a:xfrm>
          <a:prstGeom prst="rect">
            <a:avLst/>
          </a:prstGeom>
          <a:solidFill>
            <a:srgbClr val="808080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7596360" y="0"/>
            <a:ext cx="1203120" cy="155736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324000" y="1484280"/>
            <a:ext cx="8496000" cy="511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900000" y="1700280"/>
            <a:ext cx="72010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ЦРПТ - оператор Единой национально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истемы цифрово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маркировки и прослеживаемости товар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476360" y="3789360"/>
            <a:ext cx="55562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нтактные данные оператор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айт: </a:t>
            </a:r>
            <a:r>
              <a:rPr b="0" lang="en-US" sz="2000" spc="-1" strike="noStrike" u="sng">
                <a:solidFill>
                  <a:srgbClr val="6767ff"/>
                </a:solidFill>
                <a:uFillTx/>
                <a:latin typeface="Arial"/>
              </a:rPr>
              <a:t>https</a:t>
            </a:r>
            <a:r>
              <a:rPr b="0" lang="ru-RU" sz="2000" spc="-1" strike="noStrike" u="sng">
                <a:solidFill>
                  <a:srgbClr val="6767ff"/>
                </a:solidFill>
                <a:uFillTx/>
                <a:latin typeface="Arial"/>
              </a:rPr>
              <a:t>://</a:t>
            </a:r>
            <a:r>
              <a:rPr b="0" lang="ru-RU" sz="2000" spc="-1" strike="noStrike" u="sng">
                <a:solidFill>
                  <a:srgbClr val="6767ff"/>
                </a:solidFill>
                <a:uFillTx/>
                <a:latin typeface="Arial"/>
              </a:rPr>
              <a:t>честны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нак.р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+7(800)222-15-23,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+7(800)707-23-3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767ff"/>
                </a:solidFill>
                <a:uFillTx/>
                <a:latin typeface="Arial"/>
                <a:hlinkClick r:id="rId2"/>
              </a:rPr>
              <a:t>info@crpt.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767ff"/>
                </a:solidFill>
                <a:uFillTx/>
                <a:latin typeface="Arial"/>
                <a:hlinkClick r:id="rId3"/>
              </a:rPr>
              <a:t>motp@crpt.ru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cture@crpt.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6948360" y="0"/>
            <a:ext cx="2195640" cy="19162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04T00:38:50Z</dcterms:created>
  <dc:creator>Admin</dc:creator>
  <dc:description/>
  <dc:language>en-US</dc:language>
  <cp:lastModifiedBy>Admin</cp:lastModifiedBy>
  <dcterms:modified xsi:type="dcterms:W3CDTF">2019-02-05T00:33:13Z</dcterms:modified>
  <cp:revision>11</cp:revision>
  <dc:subject/>
  <dc:title>Слайд 1</dc:title>
</cp:coreProperties>
</file>